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039-09AA-4D48-9D29-E3063AE0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381-D29E-4D37-AA4F-03881483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487-74B6-40D4-9AD0-AA8DDF7E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CE7-F94D-4BC2-B2B0-045ADDBF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E2E0-8A2E-41A0-996B-2DAA1DC2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219F-889D-44B0-9759-553DE036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6045-A972-45CD-852A-15C7F7F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B2FA-D333-4A73-898B-788BD47F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408D-8110-441A-8BC4-4F3A6FCF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E7DF-D25E-4417-B39D-77F919EC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B507-12AD-4149-A78E-2A1B3097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395-4EAB-4316-ABBB-4FB71C0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92E4-9A25-4064-9C1B-5D32A89E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9C56-F225-45BB-BC7D-16EA70B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8B99-4761-4193-BAD6-04BF470E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2F31-C10C-44AA-839C-98A784D2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242F-C052-47B6-8185-1DD74D6E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CD4B-4002-47A4-8462-E458070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29E89-6DFA-4786-B2DC-DBD63DF7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33234-F6FE-4141-B1A3-B98DA27D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4A9F1-2781-42DF-90D3-FC78682A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7F20A-6043-4BB8-B98B-D33F6E1A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EE1-9D81-4813-A402-0106324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3F749-F646-4FC6-A541-9E38ED20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1588-B4A6-47B1-AF6E-558A99F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1F54A-7C9B-4666-B9CB-13AA406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23569-F9D3-4E13-A066-4D1BE66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2C01-1510-4D2C-B837-8C88B9B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0D384-08DD-4D68-B009-04834DAD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0BBF-58D5-401B-86EF-8512FB45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28C10-1694-4611-B699-B71FFD72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8044-DBEE-4E48-83AC-FCC397E3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B600-C992-4921-9D3D-261386D7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6AE8-E858-4375-A720-DA0B6735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3324-BEBC-4FD8-ABF3-2796ACBA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D72BB-2235-40CB-8B7D-C4F2281D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F181B-FE3F-4CD2-B29D-7DE7A0F2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B10B-C278-4FB5-82B2-DE0345B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5BA71-3161-49FD-9B05-26785D7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6B961-537A-44FC-86CB-0314CC43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D12F5-7C80-4B11-A739-52617098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5E3D-1774-4BBB-A524-DC6C7E08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5DC7E-CAC3-49B0-AF81-1B986F92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7D5-2E66-4A24-9CB3-88830B08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11A-9ED5-438D-8A8A-7BE94A26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9CA-FB3E-4678-A06A-4D8D68DD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E61D-20A5-45A8-8947-A6FFCD9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DDB-6E60-4029-B23B-0A7B3D1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FAB0-54C0-49EA-BC70-0C981D63560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7446-DD4F-42E4-AE2F-D4C9102140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1002-D42B-4717-B62E-634ADD5B0E8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E1B7-3EBD-44DE-BBD5-2665F067E4C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41360"/>
            <a:ext cx="8626320" cy="1944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: Sanam and Euroshi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/25/11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: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reets were laid out in line with wooden and carven booth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ach fair lasted about three wee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y of the goods were sold in the country, because of the lan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the men were wishing to own land which was needed to take the Christianity oa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chants were the first ones to put up simple booth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ople of the same religion would be on the same street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were lots of people from towns and counti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the cities grew bigger the trade grew as we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were lots of church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y packed their merchandise  into bundles or boxes and slung them over a horse or m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mmer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y carried caps, hats, girdles, purses, gloves, pewter pots, hoods for men, head dresses for women, and also musical instrument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rangers couldn’t come into the town to sell any goods, but if they paid tolls then they could sell their good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a man was not a citizen of the market town wished to sell fish, for instance he must first pay for toll for each lo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6:55:41Z</dcterms:created>
  <dc:creator>Student</dc:creator>
  <dc:description/>
  <dc:language>en-US</dc:language>
  <cp:lastModifiedBy>Student</cp:lastModifiedBy>
  <dcterms:modified xsi:type="dcterms:W3CDTF">2011-03-25T17:24:02Z</dcterms:modified>
  <cp:revision>3</cp:revision>
  <dc:subject/>
  <dc:title>Commerce</dc:title>
</cp:coreProperties>
</file>